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5624640" y="0"/>
            <a:ext cx="43020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3251160" y="528120"/>
            <a:ext cx="3424320" cy="256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6419520"/>
            <a:ext cx="43020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5624640" y="6419520"/>
            <a:ext cx="43020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EEDE-4DAA-476F-967A-5F0ECF1A44A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C4A2-4BFE-4461-A1DF-6B567C790C6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4B6E-013B-43D7-BCDB-85A4C081039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4D59-D3F0-40B9-A7B0-D68277B923F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262C-1E8A-48B3-9C1E-E5B273D538C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B38A-67E6-4422-B34A-FB503813474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0759-7769-4845-AA78-3C1359A8FE0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5F9C-95C2-48C4-9BCB-1DB275F8A35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8C26-DC5A-4D26-A826-97405BE9E63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9603-10FE-4DC2-8E95-01CA085CD0B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43E0-9B19-4494-9A60-A6212C81B3C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4878-1A66-42E7-8F6C-341C819104F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2399-2616-460A-8521-B3F213ED006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E334-355B-488D-8BA3-6BFEE62ECFD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301B-BA6A-4A15-80C7-C5DA7320DD0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E239-B2C4-4A26-838B-343E1A0B8F2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CE4B-D64B-4D26-A664-824CAC0503F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91C8-8576-4EB1-81D0-9CEEE3A09E3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A903-8D3A-464B-8964-E016FB85314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A886-1D59-492C-8AE1-AFB57F77053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4137120"/>
            <a:ext cx="77724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413712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040" y="413712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2360" y="198900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000" y="198900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413712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2360" y="413712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000" y="413712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98900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413712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040" y="413712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4137120"/>
            <a:ext cx="77724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98900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03280" y="6237360"/>
            <a:ext cx="6300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Times New Roman"/>
              </a:rPr>
              <a:t>Claudio Vit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2"/>
          <p:cNvSpPr/>
          <p:nvPr/>
        </p:nvSpPr>
        <p:spPr>
          <a:xfrm>
            <a:off x="7093080" y="6400800"/>
            <a:ext cx="205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1116000" y="189000"/>
            <a:ext cx="58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8"/>
          <p:cNvSpPr/>
          <p:nvPr/>
        </p:nvSpPr>
        <p:spPr>
          <a:xfrm>
            <a:off x="8001000" y="228600"/>
            <a:ext cx="89208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99"/>
                </a:solidFill>
                <a:latin typeface="Times New Roman"/>
              </a:rPr>
              <a:t>Slide </a:t>
            </a:r>
            <a:fld id="{73E3816D-C04C-4BD5-B118-771803FDD483}" type="slidenum">
              <a:rPr b="0" lang="it-IT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r>
              <a:rPr b="0" lang="it-IT" sz="1000" spc="-1" strike="noStrike">
                <a:solidFill>
                  <a:srgbClr val="000099"/>
                </a:solidFill>
                <a:latin typeface="Times New Roman"/>
              </a:rPr>
              <a:t>/1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3840" cy="460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000" spc="-1" strike="noStrike">
                <a:solidFill>
                  <a:srgbClr val="000099"/>
                </a:solidFill>
                <a:latin typeface="Times New Roman"/>
              </a:rPr>
              <a:t>La costruzione delle reti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it-IT" sz="4000" spc="-1" strike="noStrike">
                <a:solidFill>
                  <a:srgbClr val="000099"/>
                </a:solidFill>
                <a:latin typeface="Times New Roman"/>
              </a:rPr>
              <a:t>il concetto di partenariato e le implicazioni operative</a:t>
            </a:r>
            <a:r>
              <a:rPr b="1" lang="it-IT" sz="4000" spc="-1" strike="noStrike">
                <a:solidFill>
                  <a:srgbClr val="ff0066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99"/>
                </a:solidFill>
                <a:latin typeface="Times New Roman"/>
              </a:rPr>
              <a:t>Multiattorialit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7988400" cy="37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Times New Roman"/>
              </a:rPr>
              <a:t>Il partenariato deve avere una composizione articolata, che comprenda soggetti rappresentativi di diversi contesti istituzionali e portatori di interessi diversific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Alcuni aspetti importan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690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a condivisione degli obiettivi  generali del proget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e attese rispetto al lavoro di ciascun part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i motivi che hanno indotto ciascun partner a partecipare all’iniziativ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gli obiettivi che i partner intendono raggiungere e i risultati da loro auspic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gli strumenti e le competenze che i partner possiedono per raggiungere gli obietti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e problematiche legate all’adesione dei singoli part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Il fattore cultur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2565000"/>
            <a:ext cx="77724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Times New Roman"/>
              </a:rPr>
              <a:t>Un ulteriore elemento da non sottovalutare sono gli aspetti culturali e caratteriali del partner, che se non ponderati rischiano di mettere in crisi un partenariato. A ciò di aggiunga la condivisione di una comune lingua di lavo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data 4"/>
          <p:cNvSpPr/>
          <p:nvPr/>
        </p:nvSpPr>
        <p:spPr>
          <a:xfrm>
            <a:off x="1403280" y="6237360"/>
            <a:ext cx="6300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Modalità: ades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31128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Times New Roman"/>
              </a:rPr>
              <a:t>Aderire ad un gruppo già costitu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95640" y="1989000"/>
            <a:ext cx="446112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7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Times New Roman"/>
              </a:rPr>
              <a:t>È una scelta che nasce dal desiderio di aderire ad una iniziativa considerata interessante quando non si possiede un’esperienza sufficiente per porsi alla guida di una partnership o quando non si possiede il tempo sufficiente per intessere le relazioni necessarie alla costituzione di un proprio partenari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Modalità: crea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316836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Times New Roman"/>
              </a:rPr>
              <a:t>Creare un   nuovo gruppo    di part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95640" y="1989000"/>
            <a:ext cx="446112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Times New Roman"/>
              </a:rPr>
              <a:t>È</a:t>
            </a: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 una scelta che nasce dal desiderio di realizzare un’iniziativa innovativa in cui si crede in modo particolare, presuppone una certa esperienza pregressa e richiede un grosso impegno nella fase di progettazione e </a:t>
            </a:r>
            <a:r>
              <a:rPr b="0" i="1" lang="it-IT" sz="2800" spc="-1" strike="noStrike">
                <a:solidFill>
                  <a:srgbClr val="000099"/>
                </a:solidFill>
                <a:latin typeface="Times New Roman"/>
              </a:rPr>
              <a:t>team building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Struttura del partenariato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11280" y="2491920"/>
            <a:ext cx="4824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2800" indent="-533520">
              <a:spcBef>
                <a:spcPts val="901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Rete a stel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2800" indent="-533520">
              <a:spcBef>
                <a:spcPts val="901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Rete a nod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2800" indent="-533520">
              <a:spcBef>
                <a:spcPts val="901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Rete ad ho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2800" indent="-533520">
              <a:spcBef>
                <a:spcPts val="901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Interret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it-IT" sz="4000" spc="-1" strike="noStrike">
                <a:solidFill>
                  <a:srgbClr val="000099"/>
                </a:solidFill>
                <a:latin typeface="Times New Roman"/>
              </a:rPr>
              <a:t>1. Rete a stella </a:t>
            </a:r>
            <a:br>
              <a:rPr sz="18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2565000"/>
            <a:ext cx="77724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rete di nuova costituzi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presenza di un partner leader con una maggiore esperienz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e comunicazioni passano per il leader che stabilisce le procedure operative, organizza la banca dati centralizzata, assegna i compiti ai singoli partner, risolve eventuali conflitti, e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2. Rete a nodi </a:t>
            </a: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2923920"/>
            <a:ext cx="77724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-357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il processo di socializzazione tra partner è  piuttosto avanz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i partner hanno un ruolo paritario, uguale esperienza e medesime caratterist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presenza di un leader rappresent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a comunicazione circola in modo inform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3. Rete ad hoc </a:t>
            </a: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4360" y="2923920"/>
            <a:ext cx="77724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a rete è già matura ed i partner vantano rapporti consolid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non si evidenzia una 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e comunicazioni fra partner sono dire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4. Interrete 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modello di rete compl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cooperazione intensiva fra diversi partn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supporto di una struttura di coordinamento, punto di riferimento che garantisce la fluidità del flusso di informazioni fra i vari part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ogni partner è responsabile della propria r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91856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Perché fare rete?</a:t>
            </a:r>
            <a:r>
              <a:rPr b="1" lang="it-IT" sz="4400" spc="-1" strike="noStrike">
                <a:solidFill>
                  <a:srgbClr val="000099"/>
                </a:solidFill>
                <a:latin typeface="Comic Sans MS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Times New Roman"/>
              </a:rPr>
              <a:t>Promuovere la cooperazioni fra organizzazioni che lavorano sugli stessi problemi ma che sono diverse per tipologia, rilevanza, esperienza e nazionalità consente di ottenere risultati con un valore aggiunto maggi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9185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Cosa si intende per…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Una rete di partner la cui specificità risiede nelle connessioni tra i vari nodi e non nei nodi stes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Il partenariato non si qualifica per i suoi componenti ma per le connessioni che tra questi si possono cre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9185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Obiettivo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77724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Times New Roman"/>
              </a:rPr>
              <a:t>Realizzare il progetto non attraverso un semplice trasferimento o scambio di informazioni, ma realizzando in comune prodotti o proces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9185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Risultati della re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Si caratterizzano 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a condivisione del lavoro tra realtà differ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’eterogeneità dei gruppi operativi che li hanno realizz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’ampio riconoscimento dei criteri di utilità ed efficacia utilizzati per la realizz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9185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Cosa impl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227628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Times New Roman"/>
              </a:rPr>
              <a:t>Il partenariato transnazionale comporta un accordo tra soggetti diversi appartenenti ad aree geografiche differenti, finalizzato a raggiungere obiettivi di interesse com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9185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Come si costituis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227628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Times New Roman"/>
              </a:rPr>
              <a:t>Ogni partner porta con sé e mette a disposizione dell’iniziativa le proprie risorse, le competenze e le esperienz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56908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Caratteristiche del partenariato </a:t>
            </a:r>
            <a:br>
              <a:rPr sz="4400"/>
            </a:b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nei Programmi comunita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23640" y="3284280"/>
            <a:ext cx="525636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1360" indent="-532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Times New Roman"/>
              </a:rPr>
              <a:t>Transnazionalit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532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Times New Roman"/>
              </a:rPr>
              <a:t>Multiattoriali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83664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99"/>
                </a:solidFill>
                <a:latin typeface="Times New Roman"/>
              </a:rPr>
              <a:t>Transnazionalità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52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Times New Roman"/>
              </a:rPr>
              <a:t>Il partenariato riunisce persone e/o organismi provenienti da realtà geografiche differen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9:09:52Z</dcterms:created>
  <dc:creator>Trani</dc:creator>
  <dc:description/>
  <dc:language>en-US</dc:language>
  <cp:lastModifiedBy>vitali</cp:lastModifiedBy>
  <dcterms:modified xsi:type="dcterms:W3CDTF">2008-09-01T07:01:03Z</dcterms:modified>
  <cp:revision>131</cp:revision>
  <dc:subject/>
  <dc:title>Struttura Piano di monitoraggio</dc:title>
</cp:coreProperties>
</file>